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11.wmf" ContentType="image/x-wmf"/>
  <Override PartName="/ppt/media/image1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2.wmf" ContentType="image/x-wm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F7B4-7E8B-42CC-8B8A-F0FFFF8A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CB11-9879-4041-ABD4-8AAB556D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8892-9B68-48B9-8F2B-03A9A15F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FB65-7224-4483-84CA-16E17FE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69A-2734-484B-8367-195B6018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DE50-1AB7-4E7D-896A-4653E4D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D7A-4468-436A-854D-028F977A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51FB-9DA7-49C7-A465-8E89875D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658-7D96-449F-BB5E-03756F8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D41-7846-4120-9E2F-CCE71E57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E34-D497-4025-AEC3-8C8BBE6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1E70-A49C-4DEF-9F7D-AE1C836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53E-4809-413C-966D-87EB808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1AF-1330-4089-8D8D-2160121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8F9-D6BD-4A07-9C77-4CD00E9F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EC3E-54C3-43B9-948E-FD9E3185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D46-C3E0-40A2-88D5-CA8E744F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FFB5-2D8E-447C-94A7-38AA46F0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A37F-F392-4513-90C6-F4728F2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C029-FFD4-4998-9672-1B1015F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59A5-409F-4599-94B3-102ADEBB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A637-DE4B-437E-AF94-3E8534B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4EF2-FA72-4DD9-A233-2AEBEAEE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C07F-792E-4481-A3D3-3E497E4D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57DA-4F5D-4BA6-9FF2-4F3EE5B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A390-F877-40ED-8C99-5ED25A1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0F37-ADCC-4995-8AB2-3C259EA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785C-DEFE-4457-A06E-DA810459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D9A5-D7CF-4893-BC44-4B16372B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F1E0-DCDB-4F31-9244-1C94C466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7BAD-653A-481C-8F56-B6E28956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A82C-8A3A-45F6-BCC7-5449B398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9439-D6CA-4C6E-AB33-492AD05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9A7D-E7C2-40EE-A0D4-CD03908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08DE-CE37-4A4E-82E4-79BB3C3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10A8-823E-459E-AB9B-5AE9CA6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DC82-3A9E-48B6-A192-EDFF2BA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8AC4-8C17-43A2-9F41-4D39820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B0FE-6EBF-403C-9383-28E891E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BC67-5478-417F-94E3-5A844DF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C892-2E0B-4164-98B2-0E6907B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A3DB-879A-48B5-A543-68DE98C9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90F8-2030-4EF7-BC85-74A1365A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6050-87C0-4490-AF85-DE56C8F9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3251-B007-4F43-BD18-89DC7698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F9F5-2056-4DD0-90C4-DE8D5D52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1A81-E494-4AC9-B62A-2A08EAD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08AD-6978-43FC-B7B2-90D07614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D133-B186-4C11-8694-8EC5AC0A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7893-6428-4652-B004-3F577CE5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61BF-338B-42A4-BAC5-9FA6892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021C-3BB9-4598-9F62-C11D739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24AA-560A-4EDB-A52E-BFE086F3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7E35-ADAF-4DA4-AE76-06D79B6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62C9-AF4E-4F3E-838C-1E988B85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7E34-CAF5-47F6-BB60-5FBAFE0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A34D-B4A9-45A7-B1EC-FDC713D0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90FF-A5B5-497B-B9A3-DE720FE2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EEAD-EFD9-445B-BE41-F8F64310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A1FB-6122-49BE-8F91-9BC4506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1995-3F0C-4225-B3E3-92B83A1D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1C8B-B229-4317-9670-D07B7F1C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D56E4-E08F-4382-8C29-7391BE0A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FACA-9559-48F3-8376-FFE4198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1C92-FA76-441F-ADE1-1ACBA81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68E1-AFE0-47F3-9A36-5EA27C3F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C664-FD47-4AC8-8174-AFDD5C8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453EA-A1BC-4D1B-A6FC-AFBC008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0644-5D28-4794-B073-4F59B97B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883D-FF79-4464-94AD-7B596C5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35EC-0907-45B4-8BBE-AA28795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C514-44A7-452C-845A-A407C50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C5F-476A-488C-ACA3-463AF06738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4105-208F-4244-B7A4-A322C23005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11E6-D7AC-4DED-A91D-6813BBAA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131F-ABCE-4F67-9430-3DECCBA30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9E0-0F41-4F82-B703-28F92195A9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F27-8305-4F01-AB96-A004B0F345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ef2ab"/>
                </a:solidFill>
                <a:latin typeface="Showcard Gothic"/>
              </a:rPr>
              <a:t>Adolescente Mod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00280" y="2357280"/>
            <a:ext cx="2143440" cy="2143440"/>
            <a:chOff x="3500280" y="2357280"/>
            <a:chExt cx="2143440" cy="2143440"/>
          </a:xfrm>
        </p:grpSpPr>
        <p:sp>
          <p:nvSpPr>
            <p:cNvPr id="339" name=""/>
            <p:cNvSpPr txBox="1"/>
            <p:nvPr/>
          </p:nvSpPr>
          <p:spPr>
            <a:xfrm>
              <a:off x="3500280" y="2357280"/>
              <a:ext cx="2143440" cy="214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 rot="20455200">
            <a:off x="533520" y="27432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 rot="939600">
            <a:off x="6477120" y="10666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38080" y="2286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04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ef2ab"/>
                </a:solidFill>
                <a:latin typeface="Tahoma"/>
              </a:rPr>
              <a:t>La Primav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20263200">
            <a:off x="1219320" y="49525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Jose lleva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camisa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pantalones cortos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y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puls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20424000">
            <a:off x="3581280" y="4876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878400">
            <a:off x="5733720" y="370692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Isabel lleva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camisa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ropa interior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pulsera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y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ci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990720" y="152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0" y="593100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 rot="5400000">
            <a:off x="5708160" y="2508120"/>
            <a:ext cx="5943600" cy="927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0" y="1676520"/>
            <a:ext cx="8305920" cy="927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 rot="5400000">
            <a:off x="-2013120" y="2927160"/>
            <a:ext cx="4952880" cy="927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914400" y="914400"/>
            <a:ext cx="7315200" cy="927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8229600" cy="927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914400" y="4952880"/>
            <a:ext cx="7315200" cy="927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762120" y="3962520"/>
            <a:ext cx="7848360" cy="927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762120" y="3048120"/>
            <a:ext cx="7467480" cy="927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457200" y="1981080"/>
            <a:ext cx="8153280" cy="927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9846" t="0" r="9846" b="0"/>
          <a:stretch/>
        </p:blipFill>
        <p:spPr>
          <a:xfrm>
            <a:off x="993600" y="1905120"/>
            <a:ext cx="2508480" cy="3257280"/>
          </a:xfrm>
          <a:prstGeom prst="rect">
            <a:avLst/>
          </a:prstGeom>
          <a:ln w="57240">
            <a:solidFill>
              <a:srgbClr val="aa8456"/>
            </a:solidFill>
            <a:miter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 rot="1027800">
            <a:off x="457200" y="22096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295280" y="228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Monotype Corsiva"/>
              </a:rPr>
              <a:t>El Vera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762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atasha lleva la vestido y la puls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 rot="20445000">
            <a:off x="4952880" y="3047760"/>
            <a:ext cx="2141640" cy="3024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629400" y="1905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Veronica lleva la camisa, los blue jeans, la pulsera y la scarfa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3276720" y="4800600"/>
            <a:ext cx="1520640" cy="19051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6324480" y="228600"/>
            <a:ext cx="1811520" cy="1547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1790640" cy="2771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0574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El Oto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2057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Julia lleva la camisa, el vestido, los pantalones, los zapatos y la cinta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0" y="434340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2209680" y="449424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4495680" y="449424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6705720" y="4494240"/>
            <a:ext cx="2438280" cy="23637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6858000" y="213372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4572000" y="213372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5334120" y="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2"/>
          <a:stretch/>
        </p:blipFill>
        <p:spPr>
          <a:xfrm>
            <a:off x="2133720" y="990720"/>
            <a:ext cx="167616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3"/>
          <a:stretch/>
        </p:blipFill>
        <p:spPr>
          <a:xfrm>
            <a:off x="3809880" y="9907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5"/>
          <a:stretch/>
        </p:blipFill>
        <p:spPr>
          <a:xfrm>
            <a:off x="0" y="1600200"/>
            <a:ext cx="304920" cy="2897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2133720" y="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7"/>
          <a:stretch/>
        </p:blipFill>
        <p:spPr>
          <a:xfrm>
            <a:off x="4648320" y="160020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7010280" y="19051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driana lleva la camisa, los blue jeans y la ropa interior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2133720" cy="23619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1981080" y="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Joanna MT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Joanna MT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Papyrus"/>
              </a:rPr>
              <a:t>El  Invier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5257800" y="2057400"/>
            <a:ext cx="1665360" cy="236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1371600" y="2057400"/>
            <a:ext cx="1674720" cy="2371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3124080" y="2209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Maria lleva la camisa, los blue jeans, la chaqueta y el sombre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2133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Daniela lleva los blue jeans, el abrigo y la bufan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2362320" y="44956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47242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7086600" y="4495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1981080"/>
            <a:ext cx="1295280" cy="2514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6781680" y="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7010280" y="3276720"/>
            <a:ext cx="2133720" cy="2361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124080" y="342900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6"/>
          <a:stretch/>
        </p:blipFill>
        <p:spPr>
          <a:xfrm>
            <a:off x="8839080" y="1828800"/>
            <a:ext cx="304920" cy="990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7"/>
          <a:stretch/>
        </p:blipFill>
        <p:spPr>
          <a:xfrm>
            <a:off x="5943600" y="48769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ransition advTm="9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C:\Users\Family\AppData\Local\Microsoft\Windows\Temporary Internet Files\Content.IE5\13V6R8IG\MPj04330510000[1].jpg"/>
          <p:cNvPicPr/>
          <p:nvPr/>
        </p:nvPicPr>
        <p:blipFill>
          <a:blip r:embed="rId1"/>
          <a:stretch/>
        </p:blipFill>
        <p:spPr>
          <a:xfrm>
            <a:off x="0" y="-96840"/>
            <a:ext cx="9296280" cy="69548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ccesor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553080" y="2209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124080" y="3198960"/>
            <a:ext cx="1676520" cy="1260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6324480" y="228600"/>
            <a:ext cx="1978200" cy="1262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3657600" y="1143000"/>
            <a:ext cx="1262160" cy="1542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5228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a pend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81280" y="2666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l bo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48520" y="1447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a pulsera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l an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l sombr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os zap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152280" y="4419720"/>
            <a:ext cx="2610000" cy="1752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522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os gafas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9"/>
          <a:stretch/>
        </p:blipFill>
        <p:spPr>
          <a:xfrm>
            <a:off x="5029200" y="449568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95288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os gaf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Showcard Gothic"/>
              </a:rPr>
              <a:t>El Vest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76560" cy="2743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2085840" cy="2590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944720" cy="2666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6553080" y="3429000"/>
            <a:ext cx="2219400" cy="3086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3505320" y="4343400"/>
            <a:ext cx="2133360" cy="2143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1:42Z</dcterms:created>
  <dc:creator>kaneabi</dc:creator>
  <dc:description/>
  <dc:language>en-US</dc:language>
  <cp:lastModifiedBy>kaneabi</cp:lastModifiedBy>
  <dcterms:modified xsi:type="dcterms:W3CDTF">2011-12-20T22:42:12Z</dcterms:modified>
  <cp:revision>92</cp:revision>
  <dc:subject/>
  <dc:title>Mostrar de Moda</dc:title>
</cp:coreProperties>
</file>